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60B-2626-49EE-B74B-E3044A11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967-EF7D-40C7-8A50-CA194E02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207-CF6A-44A4-B777-5565BBCF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763-CCB2-4930-871D-30027013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B1A-FFDA-486B-97F4-F21F5E37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E6A-4F9F-407D-8577-B4223FD3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7AE-F781-47D4-AC1C-4BA90C01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0C5-72B2-44D9-BD58-AAE9CC5A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BD2-A927-4677-A866-CB9302A7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482-529A-4EC2-B3D0-D34C2AC6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BCD-5042-4661-95E0-5EDEA8BA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E9B-7429-4194-A490-DAD7129A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9592-09BF-487A-9B62-E901EEA1BA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67364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 Framework 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P Goal(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09840" y="1409040"/>
            <a:ext cx="7924680" cy="4002480"/>
            <a:chOff x="609840" y="1409040"/>
            <a:chExt cx="7924680" cy="4002480"/>
          </a:xfrm>
        </p:grpSpPr>
        <p:sp>
          <p:nvSpPr>
            <p:cNvPr id="43" name=""/>
            <p:cNvSpPr/>
            <p:nvPr/>
          </p:nvSpPr>
          <p:spPr>
            <a:xfrm>
              <a:off x="609840" y="1409040"/>
              <a:ext cx="1371600" cy="40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85640" y="1409040"/>
              <a:ext cx="1371600" cy="40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39200" y="1409040"/>
              <a:ext cx="1294920" cy="40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39040" y="1409040"/>
              <a:ext cx="1294920" cy="40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239600" y="1409040"/>
              <a:ext cx="1294920" cy="400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ssica Posner</cp:lastModifiedBy>
  <dcterms:modified xsi:type="dcterms:W3CDTF">2005-04-12T19:56:31Z</dcterms:modified>
  <cp:revision>1</cp:revision>
  <dc:subject/>
  <dc:title>PowerPoint Presentation</dc:title>
</cp:coreProperties>
</file>